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5E3-5DB5-4BA2-8D36-4CA9F70F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4D7-7CE2-4822-BF10-2C43E0E6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C35-9263-4E93-8A4B-80542C4E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617-4147-4D44-B99E-E46D0435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A7F-7D15-4269-BD8F-F140813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527-1C8B-48A3-AD7D-E0176B90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DB0-4CE2-47EA-A365-AD5A51DC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051-690E-404A-B655-9E1D7E1D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C36-5C86-45A9-968C-965D9E46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7E1-D724-437E-9A4D-930452AA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390-BC09-4F17-B129-8E02CDDD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A39-7105-4B84-83C2-C7FBA8D7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BE65-5986-41E8-8DC8-07AD087848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ifty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ewelrymall.com/cgibin/xlinker.cgi?loc=123&amp;lf=123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jewelrymall.com/stones/moonstone.html" TargetMode="External"/><Relationship Id="rId4" Type="http://schemas.openxmlformats.org/officeDocument/2006/relationships/hyperlink" Target="http://www.jewelrymall.com/cgibin/xlinker.cgi?loc=137&amp;lf=137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jewelrymall.com/stones/moonstone.html" TargetMode="External"/><Relationship Id="rId7" Type="http://schemas.openxmlformats.org/officeDocument/2006/relationships/hyperlink" Target="http://www.enchantedlearning.com/usa/statesbw/newyork.shtml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www.enchantedlearning.com/usa/states/newyork/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ostcardsfrom.com/t1/980605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50292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484020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kye K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10/17/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Period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omputer #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762120"/>
            <a:ext cx="72388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7520">
                  <a:solidFill>
                    <a:srgbClr val="00ff00"/>
                  </a:solidFill>
                  <a:miter/>
                </a:ln>
                <a:solidFill>
                  <a:srgbClr val="00ffff">
                    <a:alpha val="92000"/>
                  </a:srgbClr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York</a:t>
            </a:r>
            <a:endParaRPr b="0" lang="en-US" sz="1800" spc="1" strike="noStrike">
              <a:ln w="47520">
                <a:solidFill>
                  <a:srgbClr val="00ff00"/>
                </a:solidFill>
                <a:miter/>
              </a:ln>
              <a:solidFill>
                <a:srgbClr val="00ffff">
                  <a:alpha val="92000"/>
                </a:srgbClr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5638680"/>
            <a:ext cx="685800" cy="762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5257800"/>
            <a:ext cx="2133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York song: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,25,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fiftystat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apital: Alb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opulation: 18,976,4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ntered to Union: July 26, 17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otto: Excelsior (Ever upwa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ickname: The Empir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lower: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ird: Blue Bi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ong: I Love New 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eaning Behind Name: Named After England York of Duk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0192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2320" y="0"/>
            <a:ext cx="2743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welry Mall, Octorber18, 2011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http://www.jewelrymall.com/stones/moonston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24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on Stone is found is on New Y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97560" y="0"/>
            <a:ext cx="2746440" cy="3124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95680" y="1143000"/>
            <a:ext cx="1828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welry Mall, Octorber18, 2011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http://www.jewelrymall.com/stones/moonston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urmaline Is also found in New Y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90920" y="3200400"/>
            <a:ext cx="358128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114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72000"/>
            <a:ext cx="1828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ing learning, October18,2011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http://www.enchantedlearning.com/usa/states/newyor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4343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6172200" y="4952880"/>
            <a:ext cx="2819520" cy="190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2514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p of New Y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562720"/>
            <a:ext cx="3504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 Learning, October18, 2011, http://www.enchantedlearning.com/usa/states/newyor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York's state f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ll images Copyright © 1997 - 2000 WriteLine. All Rights Reserved. Niagara Falls postcard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28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 width of Niagara Falls is  184 ft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0199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,25,2011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postcardsfrom.com/t1/98060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457200"/>
            <a:ext cx="5334120" cy="342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4114800"/>
            <a:ext cx="4419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,25,2011, http://www.postcardsfrom.com/t1/98060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ball Hall of Fame in New Y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5029200" y="3962520"/>
            <a:ext cx="4114800" cy="2895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1752480"/>
            <a:ext cx="2971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,25,2011, http://www.postcardsfrom.com/t1/98060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867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astle like structure in the capital of New Yor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09:10Z</dcterms:created>
  <dc:creator>install</dc:creator>
  <dc:description/>
  <dc:language>en-US</dc:language>
  <cp:lastModifiedBy>install</cp:lastModifiedBy>
  <dcterms:modified xsi:type="dcterms:W3CDTF">2011-10-27T13:40:20Z</dcterms:modified>
  <cp:revision>9</cp:revision>
  <dc:subject/>
  <dc:title>Slide 1</dc:title>
</cp:coreProperties>
</file>